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62C-2AAD-48EB-A8C8-29F6D2C4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F60-7742-4771-950E-F0F6B5F3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1D0-9C47-4CE3-9C86-D9E0E985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8E8-B910-4975-8570-A844A96D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D17F0-605D-4ED9-BEB5-03F5424C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CA4ED-6C3C-4C2C-8314-4F7B8EA1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1965F-10E8-4CA3-97DE-6718983E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3E435-1E04-49C3-B4B4-B4BEB2CD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11F9D-3032-4443-AABC-13D9A739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D7DEB-A27A-4D01-B1F6-16BE75A3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DC57D-CCA2-41B8-9BFC-B17E6948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5C7-69DE-46D9-8E4E-8E553FF5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65F40-28AC-4D5D-BBCA-30BF98EE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8828C-F931-442C-81C4-800961EA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794C3-B346-47F9-A168-E1B32B8A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DE231-1A08-4754-BC27-82199AED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C7749-E3F1-4358-889A-218657BF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6B9-FBA5-41F8-9950-EC2BBE29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1F8-A050-45BD-AE95-5533DAA0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B8F-ADCA-4B10-81E1-EBD3BE3D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CCC-3F7D-4EF6-9899-5541778C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CA7-9C70-4679-94D9-5A5277C4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153-E3B4-437A-A416-9E6B5D32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7F9-5EE9-42C5-8198-683B08E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E3CE-C492-4A29-B3A2-D70ACD881CA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BF7B-0E78-4732-A0CF-E9AB4BC301D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66ff"/>
                </a:solidFill>
                <a:latin typeface="Arial"/>
              </a:rPr>
              <a:t>Hi I am going to tell you about pol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Jail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Jail is a place were a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goes if they have b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Kay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tool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have a pocket kn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have a ba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have pepper spr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have handcuffs to arrest people.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67640" y="5805360"/>
            <a:ext cx="1081080" cy="81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729000" cy="86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796000" y="191628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Dog handler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og handlers teach the do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2592360" cy="1674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59640" y="4149720"/>
            <a:ext cx="186048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419640" y="2852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588000" y="476280"/>
            <a:ext cx="21607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11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en you call 111 they will ask you what do you want fire, ambulance or police. If you have a robber in your house say pol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19640" y="3716280"/>
            <a:ext cx="1787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Dispatch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ispatchers are the people who tell the police where to 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ispatchers also collect information they need to now and what tools to b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Gea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have to wear special gear to keep them sa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Spee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have a special speed dial to check how fast the car is go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Bike pol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619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lice who ride on bikes must be fit because you might need to ride a long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348000" y="472428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Cell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en police find someone being really naughty the might take you to the station were they keep you in a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1:50:50Z</dcterms:created>
  <dc:creator>5e20</dc:creator>
  <dc:description/>
  <dc:language>en-US</dc:language>
  <cp:lastModifiedBy>5e20</cp:lastModifiedBy>
  <dcterms:modified xsi:type="dcterms:W3CDTF">2011-09-12T21:11:58Z</dcterms:modified>
  <cp:revision>6</cp:revision>
  <dc:subject/>
  <dc:title>Police</dc:title>
</cp:coreProperties>
</file>